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77A-8EB9-4D75-8B4C-BD488702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E13-E255-46F0-ABC7-0DA9CDB5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ABB-A2AB-4A41-952F-ABC5DE46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DE8-AA61-4942-9807-9206F3F0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81B-81CA-4382-ACAB-7E0B837C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12A-C058-4A68-B2A1-99C5FA84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AF0-B3F3-4061-B884-052446EC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E19-65CF-4238-8259-C3C3969E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1F2-92A3-4030-B7A9-AB130CAE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341-C0C3-4C13-B3AF-4C93BD5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7E2-3A3D-4C44-B5CD-975CC83C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39F-FC6E-41CC-A64C-9D450B6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4E28-DF22-4792-9B2B-2F14D1872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lack and White WSU Logo"/>
          <p:cNvPicPr/>
          <p:nvPr/>
        </p:nvPicPr>
        <p:blipFill>
          <a:blip r:embed="rId1"/>
          <a:stretch/>
        </p:blipFill>
        <p:spPr>
          <a:xfrm>
            <a:off x="5445000" y="298440"/>
            <a:ext cx="115416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60600" y="165240"/>
            <a:ext cx="373536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IOLOGY RESEARCH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LUB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3" name="" descr="logo_300_RGB.jpg"/>
          <p:cNvPicPr/>
          <p:nvPr/>
        </p:nvPicPr>
        <p:blipFill>
          <a:blip r:embed="rId2"/>
          <a:stretch/>
        </p:blipFill>
        <p:spPr>
          <a:xfrm>
            <a:off x="4957920" y="6886440"/>
            <a:ext cx="1662120" cy="1478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thumbnail of small NSF logo in color "/>
          <p:cNvPicPr/>
          <p:nvPr/>
        </p:nvPicPr>
        <p:blipFill>
          <a:blip r:embed="rId3"/>
          <a:stretch/>
        </p:blipFill>
        <p:spPr>
          <a:xfrm>
            <a:off x="195120" y="193680"/>
            <a:ext cx="927360" cy="90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68680" y="4346640"/>
            <a:ext cx="41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Wednesd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fter school at 3:30 pm in Mr. Welch’s classro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F-2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17560" y="6854760"/>
            <a:ext cx="3248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PONS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. Bill Welch, Mr. Scott 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cienc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Kate Brane: kebrane@wichita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raduate Student,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200600">
            <a:off x="1119960" y="4238280"/>
            <a:ext cx="14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eting Time an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163400">
            <a:off x="1171080" y="4359240"/>
            <a:ext cx="1722600" cy="99216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2480" y="1566720"/>
            <a:ext cx="574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eal college research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uild up your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ravel opportunities to scientific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roblem solv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8880" y="3138480"/>
            <a:ext cx="39117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pyrus"/>
              </a:rPr>
              <a:t>SCIENCE IS FUN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pyrus"/>
              </a:rPr>
              <a:t>COME AND JOIN THE 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8439120"/>
            <a:ext cx="498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Wichita State University, Biology Department- NSF GK-12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Pass Me The Salt / Pasame La S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-2498400" y="4027320"/>
            <a:ext cx="6026040" cy="45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Trebuchet MS"/>
              </a:rPr>
              <a:t>NORTH HIGH SCHOOL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Trebuchet MS"/>
              <a:ea typeface="Trebuchet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152280" y="7445520"/>
            <a:ext cx="1503360" cy="153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6200" y="5738760"/>
            <a:ext cx="2432160" cy="36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68560" y="599904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Too busy to join right now? Stop by and let us know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07:32Z</dcterms:created>
  <dc:creator>Owner</dc:creator>
  <dc:description/>
  <dc:language>en-US</dc:language>
  <cp:lastModifiedBy>Kate Brane</cp:lastModifiedBy>
  <dcterms:modified xsi:type="dcterms:W3CDTF">2007-09-10T14:24:36Z</dcterms:modified>
  <cp:revision>22</cp:revision>
  <dc:subject/>
  <dc:title>Slide 1</dc:title>
</cp:coreProperties>
</file>